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E66FBA3-EB76-48E2-9FB1-E7F1A0E3192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016D0CD-8199-4412-9A83-76A1C0A782A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3B8D5F3-C9D2-4EFC-A422-6926AF17C64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D3632A9-DCB4-4F34-93CB-39C716FD2D9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988E19-0163-496D-9217-21A41B5EA2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DECEC9-4F04-46C4-A934-17125896A9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9445B9-F35B-474F-A55E-3747B2B1D9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D8727B-F6BC-4537-937B-873D8918C3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30F0EA-451A-4B0A-A01B-6286B3C8C6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BC78E9-B88B-4FFB-A1CD-0DCEDE4DDC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808A32-B52C-46CB-99C5-D32C0750BC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E0C6AD-9189-4C4A-A2D2-4F1884EE4B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C44975-ABB6-432D-B18D-0E36A712B9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F5AF7-2FA9-4306-A93B-556A428367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6D1628-4C76-4F7E-B249-6687DA6D2D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39531F-0682-4E6E-A7CD-A6567AFFF9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83A5E-5413-4894-87D2-C0FA1C592F51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914400"/>
            <a:ext cx="845820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6600"/>
            </a:b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3441600"/>
            <a:ext cx="4267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209680" y="50418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0418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657600" y="5118120"/>
            <a:ext cx="175248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5715000" y="5118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118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362320" y="4203720"/>
            <a:ext cx="426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drian Col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OOPSLA, October 26-27 2004, Vancou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2FA9FC-3C6B-4C71-8FE6-C77D93C393CB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T for Eclipse (up to 3.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41B65A-5B91-4C3D-B60B-65729913358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aking do without AOP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re already working with crosscutting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2EE’s XML descriptors, generative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 and refactoring tools can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t’s not explic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85800" y="4165560"/>
          <a:ext cx="5726160" cy="23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165560"/>
                    <a:ext cx="5726160" cy="23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5791320" y="3483000"/>
          <a:ext cx="3047760" cy="291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3483000"/>
                    <a:ext cx="304776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4FC8F6-6035-4FA2-8E86-6E6AF7F3A5F8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posing crosscutting structur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express crosscutting dire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rect semantics enable good too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or, views, documentation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: auxiliary aspects, view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91116F-6991-4898-9422-BF3B3494FCD0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OP reduces system complex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s are a new language mechanism, so there is a learning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with good tool support AOP programs are easier to understand than their OO counter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990720" y="3898800"/>
          <a:ext cx="4038480" cy="250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898800"/>
                    <a:ext cx="403848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5638680" y="3314880"/>
          <a:ext cx="3068640" cy="32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3314880"/>
                    <a:ext cx="3068640" cy="32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2B6013-C49D-4DB4-8071-E33CD85FC492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What’s next?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5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refactorings will update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J refacto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-oriented refactorings will help with migration and 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 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where you se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 structure you se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rrespond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267080" y="4140360"/>
            <a:ext cx="4648320" cy="226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AEF52E-C164-4BB0-A281-6283BA63D46F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Other AOP tool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c: production, IDE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c: research, optim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Werk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oss A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point models, pointcuts, and advice are the common to each of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97BEBE-8D08-48E4-9E08-EAE260CB1EE2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y Clement, Adrian Colyer, Er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lsdale,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t Chapman, Andy Clement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Mik Kersten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AspectJ in Action"/>
          <p:cNvPicPr/>
          <p:nvPr/>
        </p:nvPicPr>
        <p:blipFill>
          <a:blip r:embed="rId1"/>
          <a:stretch/>
        </p:blipFill>
        <p:spPr>
          <a:xfrm>
            <a:off x="7937640" y="1143000"/>
            <a:ext cx="920520" cy="11048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095880" y="4819680"/>
            <a:ext cx="2743200" cy="16574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6924600" y="2286000"/>
            <a:ext cx="924120" cy="12193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7942320" y="2286000"/>
            <a:ext cx="922320" cy="12193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7975440" y="3581280"/>
            <a:ext cx="871560" cy="10670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6934320" y="3581280"/>
            <a:ext cx="895320" cy="10670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7"/>
          <a:stretch/>
        </p:blipFill>
        <p:spPr>
          <a:xfrm>
            <a:off x="6019920" y="3581280"/>
            <a:ext cx="776160" cy="1086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F5EE6F-5CE2-4095-9623-2AC388771F54}" type="slidenum">
              <a:t>1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ocket creation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ts nicely into one package (3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6BAA0E-209C-4603-B0F1-10911E352D13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pretty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ass load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ly in one package (9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9791E2-AC24-4964-B473-087F0367CB5A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ot so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ogg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5C95C7-9C19-4581-A670-157537134E5E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cost of tangled co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6CE72D-012A-4AE7-9926-C4D9E38F14E0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aop idea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AC5E47-A017-423F-AED4-835C75AC0C3E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role of tool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tools make code easy to nav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structure embedded In th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ation loo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nheritance structure can be hard to extract by reading code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ecially in large system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who overrides this meth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55BF6F-7AD1-48F2-BD88-35E55569AD16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oin poin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3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ey points in program execu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 get &amp;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ceptio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ndler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ic &amp;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ynamic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6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17920" y="3200400"/>
            <a:ext cx="7984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: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915160" y="3200400"/>
            <a:ext cx="94752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1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76560" y="381960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54280" y="35053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89640" y="352908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786800" y="3529080"/>
            <a:ext cx="0" cy="1598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92680" y="352908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92680" y="60580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89640" y="4940280"/>
            <a:ext cx="0" cy="1522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786800" y="5832360"/>
            <a:ext cx="0" cy="619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27520" y="3801960"/>
            <a:ext cx="127080" cy="2401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14800" y="358128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59280" y="3905280"/>
            <a:ext cx="1460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865400" y="4929120"/>
            <a:ext cx="1447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32400" y="3894120"/>
            <a:ext cx="12240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427800" y="3909960"/>
            <a:ext cx="1171080" cy="466560"/>
            <a:chOff x="6427800" y="3909960"/>
            <a:chExt cx="1171080" cy="466560"/>
          </a:xfrm>
        </p:grpSpPr>
        <p:sp>
          <p:nvSpPr>
            <p:cNvPr id="138" name=""/>
            <p:cNvSpPr/>
            <p:nvPr/>
          </p:nvSpPr>
          <p:spPr>
            <a:xfrm>
              <a:off x="6427800" y="4039200"/>
              <a:ext cx="126720" cy="262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58760" y="3943800"/>
              <a:ext cx="297360" cy="9324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52160" y="39099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65240" y="4300200"/>
              <a:ext cx="284400" cy="7632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427800" y="4421160"/>
            <a:ext cx="1171080" cy="471240"/>
            <a:chOff x="6427800" y="4421160"/>
            <a:chExt cx="1171080" cy="471240"/>
          </a:xfrm>
        </p:grpSpPr>
        <p:sp>
          <p:nvSpPr>
            <p:cNvPr id="143" name=""/>
            <p:cNvSpPr/>
            <p:nvPr/>
          </p:nvSpPr>
          <p:spPr>
            <a:xfrm>
              <a:off x="6427800" y="4552200"/>
              <a:ext cx="126720" cy="264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58760" y="445608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52160" y="44211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65240" y="4815360"/>
              <a:ext cx="28440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454800" y="48769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54600" y="5127480"/>
            <a:ext cx="2860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854240" y="6149880"/>
            <a:ext cx="2854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728120" y="5116680"/>
            <a:ext cx="12204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823160" y="5132520"/>
            <a:ext cx="1169280" cy="464760"/>
            <a:chOff x="7823160" y="5132520"/>
            <a:chExt cx="1169280" cy="464760"/>
          </a:xfrm>
        </p:grpSpPr>
        <p:sp>
          <p:nvSpPr>
            <p:cNvPr id="152" name=""/>
            <p:cNvSpPr/>
            <p:nvPr/>
          </p:nvSpPr>
          <p:spPr>
            <a:xfrm>
              <a:off x="7823160" y="5261040"/>
              <a:ext cx="126720" cy="261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854120" y="5166000"/>
              <a:ext cx="297360" cy="9288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45720" y="51325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60600" y="5521320"/>
              <a:ext cx="284760" cy="7596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7823160" y="5643720"/>
            <a:ext cx="1169280" cy="470880"/>
            <a:chOff x="7823160" y="5643720"/>
            <a:chExt cx="1169280" cy="470880"/>
          </a:xfrm>
        </p:grpSpPr>
        <p:sp>
          <p:nvSpPr>
            <p:cNvPr id="157" name=""/>
            <p:cNvSpPr/>
            <p:nvPr/>
          </p:nvSpPr>
          <p:spPr>
            <a:xfrm>
              <a:off x="7823160" y="5774040"/>
              <a:ext cx="126720" cy="265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854120" y="567792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45720" y="56437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60600" y="6037560"/>
              <a:ext cx="28476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7307280" y="3200400"/>
            <a:ext cx="9478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2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805280" y="3859200"/>
            <a:ext cx="200160" cy="2328480"/>
            <a:chOff x="4805280" y="3859200"/>
            <a:chExt cx="200160" cy="2328480"/>
          </a:xfrm>
        </p:grpSpPr>
        <p:sp>
          <p:nvSpPr>
            <p:cNvPr id="163" name=""/>
            <p:cNvSpPr/>
            <p:nvPr/>
          </p:nvSpPr>
          <p:spPr>
            <a:xfrm>
              <a:off x="4805280" y="3859200"/>
              <a:ext cx="200160" cy="112752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27520"/>
                <a:gd name="textAreaBottom" fmla="*/ 1117800 h 1127520"/>
              </a:gdLst>
              <a:ahLst/>
              <a:rect l="textAreaLeft" t="textAreaTop" r="textAreaRight" b="textAreaBottom"/>
              <a:pathLst>
                <a:path w="21600" h="121495">
                  <a:moveTo>
                    <a:pt x="3600" y="0"/>
                  </a:moveTo>
                  <a:arcTo wR="3600" hR="3600" stAng="16200000" swAng="-5400000"/>
                  <a:lnTo>
                    <a:pt x="0" y="117895"/>
                  </a:lnTo>
                  <a:arcTo wR="3600" hR="3600" stAng="10800000" swAng="-5400000"/>
                  <a:lnTo>
                    <a:pt x="18000" y="1214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05280" y="5080680"/>
              <a:ext cx="200160" cy="110700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07000"/>
                <a:gd name="textAreaBottom" fmla="*/ 1097280 h 1107000"/>
              </a:gdLst>
              <a:ahLst/>
              <a:rect l="textAreaLeft" t="textAreaTop" r="textAreaRight" b="textAreaBottom"/>
              <a:pathLst>
                <a:path w="21600" h="119285">
                  <a:moveTo>
                    <a:pt x="3600" y="0"/>
                  </a:moveTo>
                  <a:arcTo wR="3600" hR="3600" stAng="16200000" swAng="-5400000"/>
                  <a:lnTo>
                    <a:pt x="0" y="115685"/>
                  </a:lnTo>
                  <a:arcTo wR="3600" hR="3600" stAng="10800000" swAng="-5400000"/>
                  <a:lnTo>
                    <a:pt x="18000" y="1192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400800" y="3919680"/>
            <a:ext cx="101160" cy="997920"/>
            <a:chOff x="6400800" y="3919680"/>
            <a:chExt cx="101160" cy="997920"/>
          </a:xfrm>
        </p:grpSpPr>
        <p:sp>
          <p:nvSpPr>
            <p:cNvPr id="166" name=""/>
            <p:cNvSpPr/>
            <p:nvPr/>
          </p:nvSpPr>
          <p:spPr>
            <a:xfrm>
              <a:off x="6400800" y="391968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01520" y="442800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7791480" y="5140440"/>
            <a:ext cx="101160" cy="996480"/>
            <a:chOff x="7791480" y="5140440"/>
            <a:chExt cx="101160" cy="996480"/>
          </a:xfrm>
        </p:grpSpPr>
        <p:sp>
          <p:nvSpPr>
            <p:cNvPr id="169" name=""/>
            <p:cNvSpPr/>
            <p:nvPr/>
          </p:nvSpPr>
          <p:spPr>
            <a:xfrm>
              <a:off x="7791480" y="51404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92200" y="56480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 flipH="1">
            <a:off x="3971520" y="620244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29200" y="2178000"/>
            <a:ext cx="1262160" cy="1787400"/>
          </a:xfrm>
          <a:custGeom>
            <a:avLst/>
            <a:gdLst/>
            <a:ahLst/>
            <a:rect l="l" t="t" r="r" b="b"/>
            <a:pathLst>
              <a:path w="3504" h="4967">
                <a:moveTo>
                  <a:pt x="15105" y="7336"/>
                </a:moveTo>
                <a:cubicBezTo>
                  <a:pt x="15164" y="7416"/>
                  <a:pt x="15200" y="7467"/>
                  <a:pt x="15229" y="7567"/>
                </a:cubicBezTo>
                <a:cubicBezTo>
                  <a:pt x="15360" y="8016"/>
                  <a:pt x="15314" y="8507"/>
                  <a:pt x="15235" y="8960"/>
                </a:cubicBezTo>
                <a:cubicBezTo>
                  <a:pt x="15165" y="9361"/>
                  <a:pt x="15048" y="9762"/>
                  <a:pt x="14916" y="10146"/>
                </a:cubicBezTo>
                <a:cubicBezTo>
                  <a:pt x="14781" y="10539"/>
                  <a:pt x="14479" y="10937"/>
                  <a:pt x="14386" y="11333"/>
                </a:cubicBezTo>
                <a:cubicBezTo>
                  <a:pt x="14363" y="11430"/>
                  <a:pt x="14409" y="11290"/>
                  <a:pt x="14411" y="11286"/>
                </a:cubicBezTo>
              </a:path>
              <a:path w="3504" h="4967">
                <a:moveTo>
                  <a:pt x="17651" y="6412"/>
                </a:moveTo>
                <a:cubicBezTo>
                  <a:pt x="17716" y="6450"/>
                  <a:pt x="17720" y="6424"/>
                  <a:pt x="17762" y="6527"/>
                </a:cubicBezTo>
                <a:cubicBezTo>
                  <a:pt x="17887" y="6833"/>
                  <a:pt x="17863" y="7251"/>
                  <a:pt x="17871" y="7573"/>
                </a:cubicBezTo>
                <a:cubicBezTo>
                  <a:pt x="17886" y="8151"/>
                  <a:pt x="17869" y="8729"/>
                  <a:pt x="17833" y="9306"/>
                </a:cubicBezTo>
                <a:cubicBezTo>
                  <a:pt x="17803" y="9789"/>
                  <a:pt x="17785" y="10281"/>
                  <a:pt x="17704" y="10759"/>
                </a:cubicBezTo>
                <a:cubicBezTo>
                  <a:pt x="17679" y="10909"/>
                  <a:pt x="17701" y="10847"/>
                  <a:pt x="17656" y="1078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3903840"/>
            <a:ext cx="150840" cy="210960"/>
          </a:xfrm>
          <a:custGeom>
            <a:avLst/>
            <a:gdLst/>
            <a:ahLst/>
            <a:rect l="l" t="t" r="r" b="b"/>
            <a:pathLst>
              <a:path w="421" h="586">
                <a:moveTo>
                  <a:pt x="14200" y="11194"/>
                </a:moveTo>
                <a:cubicBezTo>
                  <a:pt x="14223" y="11247"/>
                  <a:pt x="14211" y="11280"/>
                  <a:pt x="14203" y="11341"/>
                </a:cubicBezTo>
                <a:cubicBezTo>
                  <a:pt x="14195" y="11396"/>
                  <a:pt x="14192" y="11451"/>
                  <a:pt x="14185" y="11506"/>
                </a:cubicBezTo>
                <a:cubicBezTo>
                  <a:pt x="14179" y="11556"/>
                  <a:pt x="14171" y="11605"/>
                  <a:pt x="14165" y="11655"/>
                </a:cubicBezTo>
                <a:cubicBezTo>
                  <a:pt x="14159" y="11698"/>
                  <a:pt x="14159" y="11727"/>
                  <a:pt x="14165" y="11769"/>
                </a:cubicBezTo>
                <a:cubicBezTo>
                  <a:pt x="14235" y="11765"/>
                  <a:pt x="14262" y="11717"/>
                  <a:pt x="14313" y="11660"/>
                </a:cubicBezTo>
                <a:cubicBezTo>
                  <a:pt x="14356" y="11612"/>
                  <a:pt x="14395" y="11572"/>
                  <a:pt x="14451" y="11539"/>
                </a:cubicBezTo>
                <a:cubicBezTo>
                  <a:pt x="14493" y="11514"/>
                  <a:pt x="14537" y="11490"/>
                  <a:pt x="14579" y="11465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16760" y="3651120"/>
            <a:ext cx="230040" cy="209520"/>
          </a:xfrm>
          <a:custGeom>
            <a:avLst/>
            <a:gdLst/>
            <a:ahLst/>
            <a:rect l="l" t="t" r="r" b="b"/>
            <a:pathLst>
              <a:path w="640" h="582">
                <a:moveTo>
                  <a:pt x="17393" y="10491"/>
                </a:moveTo>
                <a:cubicBezTo>
                  <a:pt x="17435" y="10543"/>
                  <a:pt x="17454" y="10593"/>
                  <a:pt x="17478" y="10656"/>
                </a:cubicBezTo>
                <a:cubicBezTo>
                  <a:pt x="17499" y="10711"/>
                  <a:pt x="17519" y="10767"/>
                  <a:pt x="17543" y="10821"/>
                </a:cubicBezTo>
                <a:cubicBezTo>
                  <a:pt x="17566" y="10872"/>
                  <a:pt x="17587" y="10925"/>
                  <a:pt x="17621" y="10970"/>
                </a:cubicBezTo>
                <a:cubicBezTo>
                  <a:pt x="17653" y="11013"/>
                  <a:pt x="17657" y="11020"/>
                  <a:pt x="17662" y="11072"/>
                </a:cubicBezTo>
                <a:cubicBezTo>
                  <a:pt x="17711" y="11030"/>
                  <a:pt x="17737" y="10979"/>
                  <a:pt x="17766" y="10919"/>
                </a:cubicBezTo>
                <a:cubicBezTo>
                  <a:pt x="17802" y="10844"/>
                  <a:pt x="17848" y="10777"/>
                  <a:pt x="17893" y="10707"/>
                </a:cubicBezTo>
                <a:cubicBezTo>
                  <a:pt x="17934" y="10645"/>
                  <a:pt x="17973" y="10598"/>
                  <a:pt x="18032" y="1055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744D4E-002F-4653-84EA-F835EB7EB23D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2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565DEC-9B70-44B8-9FA7-8CECD0E9088E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11-08T17:20:15Z</dcterms:modified>
  <cp:revision>545</cp:revision>
  <dc:subject/>
  <dc:title>Aspect-Oriented Programming with AspectJ</dc:title>
</cp:coreProperties>
</file>