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29880" y="4406760"/>
            <a:ext cx="5132520" cy="4175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85480" y="701280"/>
            <a:ext cx="462276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963960" y="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6396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881532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3029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32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7480" y="651204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KK </a:t>
            </a:r>
            <a:fld id="{5E0EBA83-4B0E-4469-BC82-16F5D8A675F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5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5786280"/>
            <a:ext cx="2543040" cy="9194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69800" y="907920"/>
            <a:ext cx="8077320" cy="152640"/>
            <a:chOff x="469800" y="907920"/>
            <a:chExt cx="8077320" cy="152640"/>
          </a:xfrm>
        </p:grpSpPr>
        <p:sp>
          <p:nvSpPr>
            <p:cNvPr id="48" name=""/>
            <p:cNvSpPr/>
            <p:nvPr/>
          </p:nvSpPr>
          <p:spPr>
            <a:xfrm>
              <a:off x="469800" y="907920"/>
              <a:ext cx="8077320" cy="7488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9800" y="1022400"/>
              <a:ext cx="807732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69800" y="2660760"/>
            <a:ext cx="8077320" cy="152280"/>
            <a:chOff x="469800" y="2660760"/>
            <a:chExt cx="8077320" cy="152280"/>
          </a:xfrm>
        </p:grpSpPr>
        <p:sp>
          <p:nvSpPr>
            <p:cNvPr id="51" name=""/>
            <p:cNvSpPr/>
            <p:nvPr/>
          </p:nvSpPr>
          <p:spPr>
            <a:xfrm>
              <a:off x="469800" y="2660760"/>
              <a:ext cx="807732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9800" y="2774880"/>
              <a:ext cx="807732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09480" y="12193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vorcing Language Dependencies from a Scientific Software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290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ary Kumfe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cott Koh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Jeff Pain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&amp;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al Ribbe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726080" y="5334120"/>
            <a:ext cx="2225880" cy="459720"/>
            <a:chOff x="4726080" y="5334120"/>
            <a:chExt cx="2225880" cy="459720"/>
          </a:xfrm>
        </p:grpSpPr>
        <p:sp>
          <p:nvSpPr>
            <p:cNvPr id="58" name=""/>
            <p:cNvSpPr/>
            <p:nvPr/>
          </p:nvSpPr>
          <p:spPr>
            <a:xfrm>
              <a:off x="4726080" y="5334120"/>
              <a:ext cx="957960" cy="459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LN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89080" y="5334120"/>
              <a:ext cx="126288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aTe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visioned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3124080"/>
            <a:ext cx="6705720" cy="1905120"/>
          </a:xfrm>
          <a:prstGeom prst="rect">
            <a:avLst/>
          </a:prstGeom>
          <a:solidFill>
            <a:srgbClr val="cdf7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5029200"/>
            <a:ext cx="3429000" cy="685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3352680" cy="838080"/>
          </a:xfrm>
          <a:prstGeom prst="rect">
            <a:avLst/>
          </a:prstGeom>
          <a:solidFill>
            <a:srgbClr val="cdf7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(ANSI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hypre_logo_orig" descr=""/>
          <p:cNvPicPr/>
          <p:nvPr/>
        </p:nvPicPr>
        <p:blipFill>
          <a:blip r:embed="rId1"/>
          <a:stretch/>
        </p:blipFill>
        <p:spPr>
          <a:xfrm>
            <a:off x="3352680" y="3581280"/>
            <a:ext cx="3009960" cy="111924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4724280" y="1676520"/>
            <a:ext cx="3353040" cy="1447560"/>
            <a:chOff x="4724280" y="1676520"/>
            <a:chExt cx="3353040" cy="1447560"/>
          </a:xfrm>
        </p:grpSpPr>
        <p:sp>
          <p:nvSpPr>
            <p:cNvPr id="143" name=""/>
            <p:cNvSpPr/>
            <p:nvPr/>
          </p:nvSpPr>
          <p:spPr>
            <a:xfrm>
              <a:off x="4724280" y="2286000"/>
              <a:ext cx="3353040" cy="8380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24280" y="1676520"/>
              <a:ext cx="83844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34320" y="1676520"/>
              <a:ext cx="114300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272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662940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678168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6476400" y="19810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babel_dropshadow" descr="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5486400" y="2362320"/>
              <a:ext cx="1905120" cy="69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minimal working subset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d Sol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SIDL descrip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base classes to create hei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e generated code to exist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Creating wrong ty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4200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has 3 types of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 - no implementations (pure abstrac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 - partial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rete classes - full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were crea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 wh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eant to cre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rete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3276720"/>
            <a:ext cx="4800600" cy="3298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Fix The Gramm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4200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he “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issues error if a method is undefined and class is not declared abstr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he “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mplements-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es al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de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es user ty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implements-a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// 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// 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Managing all the Fi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creates many source fi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269600" y="2286000"/>
            <a:ext cx="1145520" cy="1069200"/>
            <a:chOff x="4269600" y="2286000"/>
            <a:chExt cx="1145520" cy="1069200"/>
          </a:xfrm>
        </p:grpSpPr>
        <p:sp>
          <p:nvSpPr>
            <p:cNvPr id="164" name=""/>
            <p:cNvSpPr/>
            <p:nvPr/>
          </p:nvSpPr>
          <p:spPr>
            <a:xfrm rot="10800000">
              <a:off x="4574880" y="2286000"/>
              <a:ext cx="533160" cy="685440"/>
            </a:xfrm>
            <a:prstGeom prst="foldedCorner">
              <a:avLst>
                <a:gd name="adj" fmla="val 2708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9600" y="289548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o.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49840" y="3352680"/>
            <a:ext cx="8759520" cy="2973960"/>
            <a:chOff x="249840" y="3352680"/>
            <a:chExt cx="8759520" cy="2973960"/>
          </a:xfrm>
        </p:grpSpPr>
        <p:grpSp>
          <p:nvGrpSpPr>
            <p:cNvPr id="167" name=""/>
            <p:cNvGrpSpPr/>
            <p:nvPr/>
          </p:nvGrpSpPr>
          <p:grpSpPr>
            <a:xfrm>
              <a:off x="249840" y="3962520"/>
              <a:ext cx="775080" cy="1069200"/>
              <a:chOff x="249840" y="3962520"/>
              <a:chExt cx="775080" cy="1069200"/>
            </a:xfrm>
          </p:grpSpPr>
          <p:sp>
            <p:nvSpPr>
              <p:cNvPr id="168" name=""/>
              <p:cNvSpPr/>
              <p:nvPr/>
            </p:nvSpPr>
            <p:spPr>
              <a:xfrm rot="10800000">
                <a:off x="371160" y="3962520"/>
                <a:ext cx="533160" cy="685440"/>
              </a:xfrm>
              <a:prstGeom prst="foldedCorner">
                <a:avLst>
                  <a:gd name="adj" fmla="val 27083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9840" y="4572000"/>
                <a:ext cx="77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oo.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420360" y="3962520"/>
              <a:ext cx="1366560" cy="2364120"/>
              <a:chOff x="3420360" y="3962520"/>
              <a:chExt cx="1366560" cy="23641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3429360" y="5257440"/>
                <a:ext cx="1349640" cy="1069200"/>
                <a:chOff x="3429360" y="5257440"/>
                <a:chExt cx="1349640" cy="1069200"/>
              </a:xfrm>
            </p:grpSpPr>
            <p:sp>
              <p:nvSpPr>
                <p:cNvPr id="172" name=""/>
                <p:cNvSpPr/>
                <p:nvPr/>
              </p:nvSpPr>
              <p:spPr>
                <a:xfrm rot="10800000">
                  <a:off x="383652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29360" y="5866920"/>
                  <a:ext cx="134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or.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420360" y="3962520"/>
                <a:ext cx="1366560" cy="1069200"/>
                <a:chOff x="3420360" y="3962520"/>
                <a:chExt cx="1366560" cy="1069200"/>
              </a:xfrm>
            </p:grpSpPr>
            <p:sp>
              <p:nvSpPr>
                <p:cNvPr id="175" name=""/>
                <p:cNvSpPr/>
                <p:nvPr/>
              </p:nvSpPr>
              <p:spPr>
                <a:xfrm rot="10800000">
                  <a:off x="383508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20360" y="4572000"/>
                  <a:ext cx="1366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or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5184000" y="3962520"/>
              <a:ext cx="1704600" cy="2364120"/>
              <a:chOff x="5184000" y="3962520"/>
              <a:chExt cx="1704600" cy="236412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5250600" y="3962520"/>
                <a:ext cx="1569240" cy="1069200"/>
                <a:chOff x="5250600" y="3962520"/>
                <a:chExt cx="1569240" cy="1069200"/>
              </a:xfrm>
            </p:grpSpPr>
            <p:sp>
              <p:nvSpPr>
                <p:cNvPr id="179" name=""/>
                <p:cNvSpPr/>
                <p:nvPr/>
              </p:nvSpPr>
              <p:spPr>
                <a:xfrm rot="10800000">
                  <a:off x="576684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250600" y="4572000"/>
                  <a:ext cx="1569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kel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184000" y="5257440"/>
                <a:ext cx="1704600" cy="1069200"/>
                <a:chOff x="5184000" y="5257440"/>
                <a:chExt cx="1704600" cy="1069200"/>
              </a:xfrm>
            </p:grpSpPr>
            <p:sp>
              <p:nvSpPr>
                <p:cNvPr id="182" name=""/>
                <p:cNvSpPr/>
                <p:nvPr/>
              </p:nvSpPr>
              <p:spPr>
                <a:xfrm rot="10800000">
                  <a:off x="576864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184000" y="5866920"/>
                  <a:ext cx="170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kel.c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7287840" y="3962520"/>
              <a:ext cx="1721520" cy="2364120"/>
              <a:chOff x="7287840" y="3962520"/>
              <a:chExt cx="1721520" cy="23641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7356600" y="3962520"/>
                <a:ext cx="1585800" cy="1069200"/>
                <a:chOff x="7356600" y="3962520"/>
                <a:chExt cx="1585800" cy="1069200"/>
              </a:xfrm>
            </p:grpSpPr>
            <p:sp>
              <p:nvSpPr>
                <p:cNvPr id="186" name=""/>
                <p:cNvSpPr/>
                <p:nvPr/>
              </p:nvSpPr>
              <p:spPr>
                <a:xfrm rot="10800000">
                  <a:off x="788004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56600" y="4572000"/>
                  <a:ext cx="15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mpl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287840" y="5257440"/>
                <a:ext cx="1721520" cy="1069200"/>
                <a:chOff x="7287840" y="5257440"/>
                <a:chExt cx="1721520" cy="1069200"/>
              </a:xfrm>
            </p:grpSpPr>
            <p:sp>
              <p:nvSpPr>
                <p:cNvPr id="189" name=""/>
                <p:cNvSpPr/>
                <p:nvPr/>
              </p:nvSpPr>
              <p:spPr>
                <a:xfrm rot="10800000">
                  <a:off x="788004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287840" y="5866920"/>
                  <a:ext cx="1721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mpl.c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1419480" y="3962520"/>
              <a:ext cx="1604160" cy="2364120"/>
              <a:chOff x="1419480" y="3962520"/>
              <a:chExt cx="1604160" cy="23641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427040" y="5257440"/>
                <a:ext cx="1587240" cy="1069200"/>
                <a:chOff x="1427040" y="5257440"/>
                <a:chExt cx="1587240" cy="1069200"/>
              </a:xfrm>
            </p:grpSpPr>
            <p:sp>
              <p:nvSpPr>
                <p:cNvPr id="193" name=""/>
                <p:cNvSpPr/>
                <p:nvPr/>
              </p:nvSpPr>
              <p:spPr>
                <a:xfrm rot="10800000">
                  <a:off x="195228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427040" y="5866920"/>
                  <a:ext cx="1587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tub.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419480" y="3962520"/>
                <a:ext cx="1604160" cy="1069200"/>
                <a:chOff x="1419480" y="3962520"/>
                <a:chExt cx="1604160" cy="1069200"/>
              </a:xfrm>
            </p:grpSpPr>
            <p:sp>
              <p:nvSpPr>
                <p:cNvPr id="196" name=""/>
                <p:cNvSpPr/>
                <p:nvPr/>
              </p:nvSpPr>
              <p:spPr>
                <a:xfrm rot="10800000">
                  <a:off x="195228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419480" y="4572000"/>
                  <a:ext cx="1604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tub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 flipH="1">
              <a:off x="1142640" y="3352680"/>
              <a:ext cx="33526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666880" y="3352680"/>
              <a:ext cx="19814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343400" y="3352680"/>
              <a:ext cx="5335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29200" y="3352680"/>
              <a:ext cx="6858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57800" y="3352680"/>
              <a:ext cx="24382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362320" y="2286000"/>
            <a:ext cx="6346080" cy="1371600"/>
            <a:chOff x="2362320" y="2286000"/>
            <a:chExt cx="6346080" cy="1371600"/>
          </a:xfrm>
        </p:grpSpPr>
        <p:sp>
          <p:nvSpPr>
            <p:cNvPr id="204" name=""/>
            <p:cNvSpPr/>
            <p:nvPr/>
          </p:nvSpPr>
          <p:spPr>
            <a:xfrm>
              <a:off x="2362320" y="3276720"/>
              <a:ext cx="4572000" cy="380880"/>
            </a:xfrm>
            <a:custGeom>
              <a:avLst/>
              <a:gdLst/>
              <a:ahLst/>
              <a:rect l="l" t="t" r="r" b="b"/>
              <a:pathLst>
                <a:path w="2880" h="240">
                  <a:moveTo>
                    <a:pt x="0" y="0"/>
                  </a:moveTo>
                  <a:cubicBezTo>
                    <a:pt x="552" y="120"/>
                    <a:pt x="1104" y="240"/>
                    <a:pt x="1584" y="240"/>
                  </a:cubicBezTo>
                  <a:cubicBezTo>
                    <a:pt x="2064" y="240"/>
                    <a:pt x="2472" y="120"/>
                    <a:pt x="2880" y="0"/>
                  </a:cubicBezTo>
                </a:path>
              </a:pathLst>
            </a:custGeom>
            <a:noFill/>
            <a:ln w="7632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04520" y="2286000"/>
              <a:ext cx="2603880" cy="82548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ne set for 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ss &amp;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Babel Generat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file Macr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“babel.make” file is gener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s include it into their own make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control the build r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provide the file n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2209680"/>
            <a:ext cx="3962520" cy="201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RSRCS = foo_ior.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_ior.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lle_ior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RHDRS = foo_ior.h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_ior.h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lle_ior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Incremental Developmen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Developer would do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SIDL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Babel to generate bind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edit “Impl” files to call their library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854520"/>
            <a:ext cx="7848720" cy="283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return 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Incremental Development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sume this was done for 20 classes, each with 20 metho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sume a class needed a 21s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would regenerate all files and wipe out Developer’s ed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3854520"/>
            <a:ext cx="7848720" cy="283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Code Splic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preservation of developer’s ed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Splicer works line-by-li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leaves old code into new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s for begin-end pairs embedded in com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3200400"/>
            <a:ext cx="7848720" cy="338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begin( user-include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end( user-include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begin( Foo_doThis ) *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return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end( Foo_doThi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C, F77, or C+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SPARC Solaris  or  DEC/OS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more languages &amp; platforms com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interference with M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 overhead within runtime no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971800" y="152280"/>
            <a:ext cx="3276720" cy="1200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496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 T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specify “interfaces” in our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generate glue code between application and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 of a Component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OOP in non-OOP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safe Dynamic Casting and QueryInterfac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371600" y="1676520"/>
            <a:ext cx="6705720" cy="4038480"/>
            <a:chOff x="1371600" y="1676520"/>
            <a:chExt cx="6705720" cy="4038480"/>
          </a:xfrm>
        </p:grpSpPr>
        <p:sp>
          <p:nvSpPr>
            <p:cNvPr id="221" name=""/>
            <p:cNvSpPr/>
            <p:nvPr/>
          </p:nvSpPr>
          <p:spPr>
            <a:xfrm>
              <a:off x="1371600" y="3124080"/>
              <a:ext cx="6705720" cy="190512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1600" y="5029200"/>
              <a:ext cx="3429000" cy="6858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71600" y="2286000"/>
              <a:ext cx="3352680" cy="83808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icial”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ypr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face (ANSI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hypre_logo_orig" descr=""/>
            <p:cNvPicPr/>
            <p:nvPr/>
          </p:nvPicPr>
          <p:blipFill>
            <a:blip r:embed="rId1"/>
            <a:stretch/>
          </p:blipFill>
          <p:spPr>
            <a:xfrm>
              <a:off x="3352680" y="3581280"/>
              <a:ext cx="3009960" cy="1119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" name=""/>
            <p:cNvGrpSpPr/>
            <p:nvPr/>
          </p:nvGrpSpPr>
          <p:grpSpPr>
            <a:xfrm>
              <a:off x="4724280" y="1676520"/>
              <a:ext cx="3353040" cy="1447560"/>
              <a:chOff x="4724280" y="1676520"/>
              <a:chExt cx="3353040" cy="1447560"/>
            </a:xfrm>
          </p:grpSpPr>
          <p:sp>
            <p:nvSpPr>
              <p:cNvPr id="226" name=""/>
              <p:cNvSpPr/>
              <p:nvPr/>
            </p:nvSpPr>
            <p:spPr>
              <a:xfrm>
                <a:off x="4724280" y="2286000"/>
                <a:ext cx="3353040" cy="8380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724280" y="1676520"/>
                <a:ext cx="83844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7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934320" y="1676520"/>
                <a:ext cx="114300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yth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562720" y="1676520"/>
                <a:ext cx="83808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+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6629400" y="19810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6781680" y="19810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6476400" y="1981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3" name="babel_dropshadow" descr=""/>
              <p:cNvPicPr/>
              <p:nvPr/>
            </p:nvPicPr>
            <p:blipFill>
              <a:blip r:embed="rId2">
                <a:lum bright="-12000"/>
              </a:blip>
              <a:stretch/>
            </p:blipFill>
            <p:spPr>
              <a:xfrm>
                <a:off x="5486400" y="2362320"/>
                <a:ext cx="190512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st Result:  Change of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371600" y="1676520"/>
            <a:ext cx="6705720" cy="4038480"/>
            <a:chOff x="1371600" y="1676520"/>
            <a:chExt cx="6705720" cy="4038480"/>
          </a:xfrm>
        </p:grpSpPr>
        <p:sp>
          <p:nvSpPr>
            <p:cNvPr id="236" name=""/>
            <p:cNvSpPr/>
            <p:nvPr/>
          </p:nvSpPr>
          <p:spPr>
            <a:xfrm>
              <a:off x="1371600" y="2286000"/>
              <a:ext cx="6705720" cy="34290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34320" y="1676520"/>
              <a:ext cx="114300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71600" y="5029200"/>
              <a:ext cx="3124440" cy="6858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71600" y="3124440"/>
              <a:ext cx="5943600" cy="190476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hypre_logo_orig" descr=""/>
            <p:cNvPicPr/>
            <p:nvPr/>
          </p:nvPicPr>
          <p:blipFill>
            <a:blip r:embed="rId3"/>
            <a:stretch/>
          </p:blipFill>
          <p:spPr>
            <a:xfrm>
              <a:off x="3048120" y="3581640"/>
              <a:ext cx="300996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72464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6272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6629400" y="19807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6781320" y="1980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6477120" y="19807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babel_dropshadow" descr=""/>
            <p:cNvPicPr/>
            <p:nvPr/>
          </p:nvPicPr>
          <p:blipFill>
            <a:blip r:embed="rId4">
              <a:lum bright="-12000"/>
            </a:blip>
            <a:stretch/>
          </p:blipFill>
          <p:spPr>
            <a:xfrm>
              <a:off x="3886200" y="2362320"/>
              <a:ext cx="19051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371600" y="1676520"/>
              <a:ext cx="335304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SI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33520" y="5181840"/>
              <a:ext cx="217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 Run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15200" y="50292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93080" y="2514600"/>
              <a:ext cx="12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icial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7160" y="251460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sons for 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d using the t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Hand F77 bind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at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d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discussing designs in S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for e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ssible to mix implementation &amp;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inced of Babel’s longe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enforces regularity in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d automatic reference count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llent compromise betwe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ing polymorphism and OO techn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ing all ANSI C for maximum por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&amp; Future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:  C, C++, F77, Python (Cli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ing: Python(Server), Java, F90, Matla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ies RMI / Distributed Compu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Data Redistribution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ization efforts in LLN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RA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124080" y="5181480"/>
            <a:ext cx="502920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ublic Beta Releas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ate Summer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d3a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Websit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llnl.gov/CASC/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exandria (Component Repositor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orum (Online Vot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ic Parallel Redistrib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llnl.gov/CASC/hyp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banner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3530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57320" y="3521160"/>
            <a:ext cx="7342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performed under the auspices of the U. S. Department of Energy by Lawrence Livermore National Laboratory under Contract W-7405-Eng-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4360" y="650880"/>
            <a:ext cx="4677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RL-VG-140349 Rev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to Babel’s Interoperability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25800" y="2362320"/>
            <a:ext cx="2887200" cy="1407960"/>
            <a:chOff x="1225800" y="2362320"/>
            <a:chExt cx="2887200" cy="1407960"/>
          </a:xfrm>
        </p:grpSpPr>
        <p:sp>
          <p:nvSpPr>
            <p:cNvPr id="265" name=""/>
            <p:cNvSpPr/>
            <p:nvPr/>
          </p:nvSpPr>
          <p:spPr>
            <a:xfrm>
              <a:off x="2057400" y="236232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SID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25800" y="2944800"/>
              <a:ext cx="288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ientifi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inition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335560" y="2362320"/>
            <a:ext cx="2841480" cy="1407960"/>
            <a:chOff x="5335560" y="2362320"/>
            <a:chExt cx="2841480" cy="1407960"/>
          </a:xfrm>
        </p:grpSpPr>
        <p:sp>
          <p:nvSpPr>
            <p:cNvPr id="268" name=""/>
            <p:cNvSpPr/>
            <p:nvPr/>
          </p:nvSpPr>
          <p:spPr>
            <a:xfrm>
              <a:off x="6258600" y="236232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I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560" y="2944800"/>
              <a:ext cx="284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mediate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14800" y="30481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743920" y="3981600"/>
            <a:ext cx="3809520" cy="1869840"/>
            <a:chOff x="2743920" y="3981600"/>
            <a:chExt cx="3809520" cy="1869840"/>
          </a:xfrm>
        </p:grpSpPr>
        <p:grpSp>
          <p:nvGrpSpPr>
            <p:cNvPr id="272" name=""/>
            <p:cNvGrpSpPr/>
            <p:nvPr/>
          </p:nvGrpSpPr>
          <p:grpSpPr>
            <a:xfrm>
              <a:off x="3356640" y="4419720"/>
              <a:ext cx="2702880" cy="1431720"/>
              <a:chOff x="3356640" y="4419720"/>
              <a:chExt cx="2702880" cy="1431720"/>
            </a:xfrm>
          </p:grpSpPr>
          <p:sp>
            <p:nvSpPr>
              <p:cNvPr id="273" name=""/>
              <p:cNvSpPr/>
              <p:nvPr/>
            </p:nvSpPr>
            <p:spPr>
              <a:xfrm>
                <a:off x="4135320" y="4419720"/>
                <a:ext cx="114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XM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356640" y="5025960"/>
                <a:ext cx="270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ensible Marku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2743920" y="3981600"/>
              <a:ext cx="988920" cy="573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562720" y="3983040"/>
              <a:ext cx="990720" cy="56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42960" y="1302840"/>
            <a:ext cx="7443000" cy="5209200"/>
            <a:chOff x="642960" y="1302840"/>
            <a:chExt cx="7443000" cy="5209200"/>
          </a:xfrm>
        </p:grpSpPr>
        <p:sp>
          <p:nvSpPr>
            <p:cNvPr id="278" name=""/>
            <p:cNvSpPr/>
            <p:nvPr/>
          </p:nvSpPr>
          <p:spPr>
            <a:xfrm rot="20190000">
              <a:off x="618840" y="1968480"/>
              <a:ext cx="278676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uman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0190000">
              <a:off x="4509360" y="5586480"/>
              <a:ext cx="243180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b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0190000">
              <a:off x="5096520" y="1886040"/>
              <a:ext cx="302292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r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Component Framework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3434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Industry Accep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ily Remoting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Establish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ocess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337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1562040"/>
            <a:ext cx="43434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Java Beans (EJ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s wherever Java d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Component Framewor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3434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Industry Accep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ily Remoting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ge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In-Process Optimiz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Establish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ocess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Microsoft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es on sophisticated development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337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Java Beans (EJ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s wherever Java do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Speci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ly highest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e Abo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mplex Intrinsic Data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ynamic 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Fortran77/90/95 bind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aralle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ncept of SPMD Program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62840" y="15228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7200" y="838080"/>
            <a:ext cx="2133720" cy="152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514600" y="990360"/>
            <a:ext cx="76320" cy="152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990720"/>
            <a:ext cx="15228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2680" y="298440"/>
            <a:ext cx="8712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 mean b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Language Interoperability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0120" y="289548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28960" y="40384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2920" y="49528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75960" y="167652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85280" y="289548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6" idx="2"/>
            <a:endCxn id="63" idx="0"/>
          </p:cNvCxnSpPr>
          <p:nvPr/>
        </p:nvCxnSpPr>
        <p:spPr>
          <a:xfrm flipH="1">
            <a:off x="2232720" y="2435040"/>
            <a:ext cx="2488680" cy="44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66" idx="2"/>
            <a:endCxn id="67" idx="0"/>
          </p:cNvCxnSpPr>
          <p:nvPr/>
        </p:nvCxnSpPr>
        <p:spPr>
          <a:xfrm>
            <a:off x="4721400" y="2435040"/>
            <a:ext cx="2520000" cy="44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63" idx="2"/>
            <a:endCxn id="65" idx="0"/>
          </p:cNvCxnSpPr>
          <p:nvPr/>
        </p:nvCxnSpPr>
        <p:spPr>
          <a:xfrm flipH="1">
            <a:off x="1607400" y="3654360"/>
            <a:ext cx="626040" cy="1280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3" idx="2"/>
            <a:endCxn id="64" idx="0"/>
          </p:cNvCxnSpPr>
          <p:nvPr/>
        </p:nvCxnSpPr>
        <p:spPr>
          <a:xfrm>
            <a:off x="2233440" y="3654360"/>
            <a:ext cx="2542320" cy="36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64" idx="1"/>
            <a:endCxn id="65" idx="3"/>
          </p:cNvCxnSpPr>
          <p:nvPr/>
        </p:nvCxnSpPr>
        <p:spPr>
          <a:xfrm flipH="1">
            <a:off x="2930040" y="4408560"/>
            <a:ext cx="86112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 Coded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9080" y="1523880"/>
            <a:ext cx="259920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tform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6" idx="0"/>
            <a:endCxn id="75" idx="2"/>
          </p:cNvCxnSpPr>
          <p:nvPr/>
        </p:nvCxnSpPr>
        <p:spPr>
          <a:xfrm flipV="1">
            <a:off x="2391840" y="3859920"/>
            <a:ext cx="1080" cy="653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6" idx="2"/>
            <a:endCxn id="80" idx="0"/>
          </p:cNvCxnSpPr>
          <p:nvPr/>
        </p:nvCxnSpPr>
        <p:spPr>
          <a:xfrm>
            <a:off x="2392200" y="5092200"/>
            <a:ext cx="2199600" cy="57708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76" idx="3"/>
            <a:endCxn id="79" idx="1"/>
          </p:cNvCxnSpPr>
          <p:nvPr/>
        </p:nvCxnSpPr>
        <p:spPr>
          <a:xfrm>
            <a:off x="2868480" y="4803480"/>
            <a:ext cx="3201120" cy="10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5" idx="0"/>
            <a:endCxn id="77" idx="1"/>
          </p:cNvCxnSpPr>
          <p:nvPr/>
        </p:nvCxnSpPr>
        <p:spPr>
          <a:xfrm flipV="1">
            <a:off x="2391840" y="2656800"/>
            <a:ext cx="181692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78" idx="0"/>
            <a:endCxn id="77" idx="3"/>
          </p:cNvCxnSpPr>
          <p:nvPr/>
        </p:nvCxnSpPr>
        <p:spPr>
          <a:xfrm flipH="1" flipV="1">
            <a:off x="4977720" y="2657160"/>
            <a:ext cx="1809000" cy="619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80" idx="0"/>
            <a:endCxn id="75" idx="3"/>
          </p:cNvCxnSpPr>
          <p:nvPr/>
        </p:nvCxnSpPr>
        <p:spPr>
          <a:xfrm flipH="1" flipV="1">
            <a:off x="2630160" y="3571560"/>
            <a:ext cx="1961280" cy="209736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9" idx="1"/>
            <a:endCxn id="75" idx="3"/>
          </p:cNvCxnSpPr>
          <p:nvPr/>
        </p:nvCxnSpPr>
        <p:spPr>
          <a:xfrm flipH="1" flipV="1">
            <a:off x="2629800" y="3571920"/>
            <a:ext cx="3439080" cy="12322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76" idx="0"/>
            <a:endCxn id="77" idx="2"/>
          </p:cNvCxnSpPr>
          <p:nvPr/>
        </p:nvCxnSpPr>
        <p:spPr>
          <a:xfrm flipV="1">
            <a:off x="2391840" y="2945520"/>
            <a:ext cx="2202840" cy="1567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86200" y="3505320"/>
            <a:ext cx="1219320" cy="1218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s, Virtual Functions, RMI &amp; Reference Counting: all from Bab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77920" y="316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39960" y="434808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33520" y="2214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9280" y="31669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92920" y="43480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73320" y="55040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53800" y="384012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Arial"/>
              </a:rPr>
              <a:t>B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3505320"/>
            <a:ext cx="1447560" cy="3808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2743200"/>
            <a:ext cx="0" cy="8380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952880" y="3505320"/>
            <a:ext cx="1447920" cy="3808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356000"/>
            <a:ext cx="990720" cy="22860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819520" y="4355640"/>
            <a:ext cx="1218960" cy="22860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4724280"/>
            <a:ext cx="0" cy="83844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generates glue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23760" y="3048120"/>
            <a:ext cx="1752840" cy="1295280"/>
          </a:xfrm>
          <a:prstGeom prst="flowChartMultidocumen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8000" y="3448080"/>
            <a:ext cx="15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SIDL interface</a:t>
            </a:r>
            <a:br>
              <a:rPr sz="1600"/>
            </a:b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2436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57920" y="35272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b61"/>
                </a:solidFill>
                <a:latin typeface="Arial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4024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78760" y="35272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5468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0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9960" y="352728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0c0"/>
                </a:solidFill>
                <a:latin typeface="Arial"/>
              </a:rPr>
              <a:t>back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79360" y="2819520"/>
            <a:ext cx="47340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1720" y="3284640"/>
            <a:ext cx="32688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82800" y="4216320"/>
            <a:ext cx="866520" cy="337320"/>
          </a:xfrm>
          <a:prstGeom prst="rect">
            <a:avLst/>
          </a:prstGeom>
          <a:noFill/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yth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32560" y="3749760"/>
            <a:ext cx="5648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010280" y="312372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010280" y="3504960"/>
            <a:ext cx="3812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38098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9625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13240" y="1523880"/>
            <a:ext cx="1371600" cy="1067040"/>
          </a:xfrm>
          <a:prstGeom prst="can">
            <a:avLst>
              <a:gd name="adj" fmla="val 25000"/>
            </a:avLst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62480" y="1752480"/>
            <a:ext cx="147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machine</a:t>
            </a:r>
            <a:br>
              <a:rPr sz="1600"/>
            </a:b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configuration</a:t>
            </a:r>
            <a:br>
              <a:rPr sz="1600"/>
            </a:b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2666880"/>
            <a:ext cx="152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13640" y="518148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XML repository</a:t>
            </a:r>
            <a:br>
              <a:rPr sz="1600"/>
            </a:b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interface</a:t>
            </a:r>
            <a:br>
              <a:rPr sz="1600"/>
            </a:b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952880"/>
            <a:ext cx="1981440" cy="1219320"/>
          </a:xfrm>
          <a:prstGeom prst="flowChartMultidocument">
            <a:avLst/>
          </a:prstGeom>
          <a:noFill/>
          <a:ln w="381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00400" y="419076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4408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ientific Interface Definition Language (SID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8686800" cy="47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ESI.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a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2057400"/>
            <a:ext cx="13694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to be “divorced” from its language depend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lable parallel linear solvers and preconditioners (LLN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ed in ANSI C using M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Based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hypre_logo_orig" descr=""/>
          <p:cNvPicPr/>
          <p:nvPr/>
        </p:nvPicPr>
        <p:blipFill>
          <a:blip r:embed="rId1"/>
          <a:stretch/>
        </p:blipFill>
        <p:spPr>
          <a:xfrm>
            <a:off x="2743200" y="0"/>
            <a:ext cx="346716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aboration Obj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 si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nstrate Babel technolog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from library develop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re si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ically create Fortran bind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e new desig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-Orient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nent-B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e other softwa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 or F7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8:14:34Z</dcterms:created>
  <dc:creator>Gary Kumfert</dc:creator>
  <dc:description/>
  <dc:language>en-US</dc:language>
  <cp:lastModifiedBy>kumfert</cp:lastModifiedBy>
  <cp:lastPrinted>2001-03-09T22:09:57Z</cp:lastPrinted>
  <dcterms:modified xsi:type="dcterms:W3CDTF">2001-03-09T23:21:45Z</dcterms:modified>
  <cp:revision>35</cp:revision>
  <dc:subject/>
  <dc:title> Name Center for Applied Scientific Computing  month day, 1998</dc:title>
</cp:coreProperties>
</file>